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EF52-7E86-48DC-81F8-D067A271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95EE-FB18-4884-8CE9-E52028F4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D148-5F96-4F38-84EF-1001C618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30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914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146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530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914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AD90-FE91-4EA7-BAC4-B851FF92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E88D-A5CA-4F26-A709-724DE230D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ECB0-0D0B-48E4-864E-0995EAF0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87A0-515C-4D6E-A784-22FF4369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0E55-E383-4CB0-8709-229283D7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6A1A-BD4A-4B5C-9233-48116EE0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A698-952F-49C3-BC3E-3982B43B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8679-F1D2-4B61-8F49-14AE682D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7CDD-58EF-479A-ACD4-1687F7A6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DC4C-5925-4DC9-8FFE-F9948E05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C702-13A9-46F0-BDAA-52EF65ED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327B-D36D-44DC-874F-D0F017E7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CA8E-1AE6-4B70-ABD7-49F7C4F90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30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914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146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530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914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389D-C4F6-465D-926D-4EB3C0177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4BD6-3884-4C59-93F8-0C9F83E0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C7AD-C4AE-4E06-838A-EDC6C646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3B82-9901-4A64-A562-2994C5BD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4DAE-EBBC-44F1-BD9B-34A02B72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55F5-3D8E-47CD-8BF6-F6C05040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5F37-766B-4019-82BC-E8A965D9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C46A-C11C-4086-BE77-D3E2724C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E77E-D31B-40EC-B9A2-E8F94FA5907A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96C0-1F88-4B56-BCB2-E715AA8D1727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Review of Factoring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hat you should remember…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124080" y="62485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3276720" y="1523880"/>
          <a:ext cx="420372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523880"/>
                    <a:ext cx="42037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4"/>
          <p:cNvSpPr/>
          <p:nvPr/>
        </p:nvSpPr>
        <p:spPr>
          <a:xfrm>
            <a:off x="3124080" y="62485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GCF (Greatest Common Factor)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actoring out the GCF reverses the distributive proper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ivide out the largest number that goes into each coefficient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f all of the terms have common variables, take out the smallest exponent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3124080" y="62485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How to Identify: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CF problems can be binomials, trinomials, or polynomial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Look for common variables and common factor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4"/>
          <p:cNvSpPr/>
          <p:nvPr/>
        </p:nvSpPr>
        <p:spPr>
          <a:xfrm>
            <a:off x="3124080" y="62485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95" name="Object 4"/>
          <p:cNvGraphicFramePr/>
          <p:nvPr/>
        </p:nvGraphicFramePr>
        <p:xfrm>
          <a:off x="2438280" y="1523880"/>
          <a:ext cx="5797800" cy="401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523880"/>
                    <a:ext cx="57978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2485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Difference of 2 Squar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actoring using the difference of 2 squares reverses FOIL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oth terms must be perfect square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aning: Coefficients and constants must be perfect squares, and variables must have even exponent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2485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How to Identify: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ifference of 2 Squares problems must be binomials.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terms being SUBTRACTED must be perfect square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lways set up the parenthesis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     +     )(     -     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3124080" y="62485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3200400" y="1523880"/>
          <a:ext cx="4268880" cy="45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523880"/>
                    <a:ext cx="4268880" cy="45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3124080" y="62485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Reverse FOIL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lso called guess &amp; check / trial &amp; erro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You must find 2 factors that multiply to create the last term, but add to the middle term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tart by writing out the factors of the last term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e careful with your signs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2485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How to Identify: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o factor by guess &amp; check, you must have a trinomial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rite out the factors of the last number until you find the pair that adds to the middle term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21:27:28Z</dcterms:created>
  <dc:creator>PSD</dc:creator>
  <dc:description/>
  <dc:language>en-US</dc:language>
  <cp:lastModifiedBy>test</cp:lastModifiedBy>
  <dcterms:modified xsi:type="dcterms:W3CDTF">2015-05-08T11:59:32Z</dcterms:modified>
  <cp:revision>2</cp:revision>
  <dc:subject/>
  <dc:title>Review of Factoring</dc:title>
</cp:coreProperties>
</file>